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F7CB-7768-4176-973D-258DE36B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C444-D1AF-4012-A0F8-5464A56E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8089-9133-460C-A310-0752BA34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E557-7167-4773-9121-9A49F28E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AA60-9128-443C-AFD7-9A8C34C8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F4C-51AF-454D-B2D3-19F398F4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04CA-393B-48B4-85CD-8321F496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3961-E088-4FD7-80E3-C6FF0283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F412-C409-41BE-9444-ACFD6C76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E536-ABAC-44C5-9411-8AC311B4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4E52-3793-429D-88BE-F996C302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0979-F74E-45E9-B2BB-865F443D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3942-5D65-41B9-A92F-D8CC4B5B3F4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izykmania.w.interia.pl/animacje/zal_swia/refraction.htm" TargetMode="External"/><Relationship Id="rId2" Type="http://schemas.openxmlformats.org/officeDocument/2006/relationships/hyperlink" Target="http://fizykmania.w.interia.pl/animacje/zal_swia/refraction.htm" TargetMode="External"/><Relationship Id="rId3" Type="http://schemas.openxmlformats.org/officeDocument/2006/relationships/hyperlink" Target="http://fizykmania.w.interia.pl/animacje/zal_swia/refraction.htm" TargetMode="External"/><Relationship Id="rId4" Type="http://schemas.openxmlformats.org/officeDocument/2006/relationships/hyperlink" Target="http://fizykmania.w.interia.pl/animacje/zal_swia/refraction.htm" TargetMode="External"/><Relationship Id="rId5" Type="http://schemas.openxmlformats.org/officeDocument/2006/relationships/hyperlink" Target="http://fizykmania.w.interia.pl/animacje/zal_swia/refraction.htm" TargetMode="External"/><Relationship Id="rId6" Type="http://schemas.openxmlformats.org/officeDocument/2006/relationships/hyperlink" Target="http://fizykmania.w.interia.pl/animacje/zal_swia/refraction.htm" TargetMode="External"/><Relationship Id="rId7" Type="http://schemas.openxmlformats.org/officeDocument/2006/relationships/hyperlink" Target="http://fizykmania.w.interia.pl/animacje/zal_swia/refraction.htm" TargetMode="External"/><Relationship Id="rId8" Type="http://schemas.openxmlformats.org/officeDocument/2006/relationships/hyperlink" Target="http://fizykmania.w.interia.pl/animacje/zal_swia/refraction.htm" TargetMode="External"/><Relationship Id="rId9" Type="http://schemas.openxmlformats.org/officeDocument/2006/relationships/hyperlink" Target="http://fizykmania.w.interia.pl/animacje/zal_swia/refraction.htm" TargetMode="External"/><Relationship Id="rId10" Type="http://schemas.openxmlformats.org/officeDocument/2006/relationships/hyperlink" Target="http://fizykmania.w.interia.pl/animacje/zal_swia/refraction.htm" TargetMode="External"/><Relationship Id="rId11" Type="http://schemas.openxmlformats.org/officeDocument/2006/relationships/hyperlink" Target="http://fizykmania.w.interia.pl/animacje/zal_swia/refraction.htm" TargetMode="External"/><Relationship Id="rId12" Type="http://schemas.openxmlformats.org/officeDocument/2006/relationships/hyperlink" Target="http://fizykmania.w.interia.pl/animacje/zal_swia/refraction.htm" TargetMode="External"/><Relationship Id="rId13" Type="http://schemas.openxmlformats.org/officeDocument/2006/relationships/hyperlink" Target="http://fizykmania.w.interia.pl/animacje/zal_swia/refraction.htm" TargetMode="External"/><Relationship Id="rId14" Type="http://schemas.openxmlformats.org/officeDocument/2006/relationships/hyperlink" Target="http://fizykmania.w.interia.pl/animacje/zal_swia/refraction.htm" TargetMode="External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Załamanie światł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enariusz lek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analiza doświadczeń i wykł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ćwiczenie – badanie kąta załama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notat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podsumowan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Kąt załamania jest mniejszy </a:t>
            </a:r>
            <a:br>
              <a:rPr sz="4400"/>
            </a:b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od kąta padania (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 &lt; 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7960" y="27432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dy światło przechodzi z ośrodka, w którym rozchodzi się szybciej, do ośrodka, w którym rozchodzi się wolni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Wykres001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276360" cy="327636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rId3" action="ppaction://hlinksldjump"/>
          </p:cNvPr>
          <p:cNvSpPr/>
          <p:nvPr/>
        </p:nvSpPr>
        <p:spPr>
          <a:xfrm>
            <a:off x="8305920" y="6095880"/>
            <a:ext cx="533160" cy="486000"/>
          </a:xfrm>
          <a:prstGeom prst="rightArrow">
            <a:avLst>
              <a:gd name="adj1" fmla="val 50000"/>
              <a:gd name="adj2" fmla="val 27426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Kąt załamania jest większy </a:t>
            </a:r>
            <a:br>
              <a:rPr sz="4400"/>
            </a:b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niż kąt padania (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 &gt; 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1640" y="2666880"/>
            <a:ext cx="3809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dy promień przechodzi z ośrodka, w którym rozchodzi się wolniej, do ośrodka, w którym rozchodzi się szybcie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Wykres002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rId3" action="ppaction://hlinksldjump"/>
          </p:cNvPr>
          <p:cNvSpPr/>
          <p:nvPr/>
        </p:nvSpPr>
        <p:spPr>
          <a:xfrm>
            <a:off x="8305920" y="6095880"/>
            <a:ext cx="533160" cy="486000"/>
          </a:xfrm>
          <a:prstGeom prst="rightArrow">
            <a:avLst>
              <a:gd name="adj1" fmla="val 50000"/>
              <a:gd name="adj2" fmla="val 27426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Promień świetlny </a:t>
            </a:r>
            <a:br>
              <a:rPr sz="4400"/>
            </a:b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nie ulega załamani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7960" y="3200040"/>
            <a:ext cx="3809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dy pada na granicę ośrodków pod ką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Wykres003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3504960" cy="350532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rId3" action="ppaction://hlinksldjump"/>
          </p:cNvPr>
          <p:cNvSpPr/>
          <p:nvPr/>
        </p:nvSpPr>
        <p:spPr>
          <a:xfrm>
            <a:off x="8305920" y="6095880"/>
            <a:ext cx="533160" cy="486000"/>
          </a:xfrm>
          <a:prstGeom prst="rightArrow">
            <a:avLst>
              <a:gd name="adj1" fmla="val 50000"/>
              <a:gd name="adj2" fmla="val 27426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8077320" y="3581280"/>
                <a:ext cx="676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6f6fb9"/>
            </a:gs>
            <a:gs pos="100000">
              <a:srgbClr val="99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18284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3333cc"/>
                </a:solidFill>
                <a:uFillTx/>
                <a:latin typeface="Times New Roman"/>
              </a:rPr>
              <a:t>Zjawiska optyczne </a:t>
            </a:r>
            <a:br>
              <a:rPr sz="5400"/>
            </a:br>
            <a:r>
              <a:rPr b="1" i="1" lang="en-US" sz="5400" spc="-1" strike="noStrike" u="sng">
                <a:solidFill>
                  <a:srgbClr val="3333cc"/>
                </a:solidFill>
                <a:uFillTx/>
                <a:latin typeface="Times New Roman"/>
              </a:rPr>
              <a:t>spowodowane </a:t>
            </a:r>
            <a:br>
              <a:rPr sz="5400"/>
            </a:br>
            <a:r>
              <a:rPr b="1" i="1" lang="en-US" sz="5400" spc="-1" strike="noStrike" u="sng">
                <a:solidFill>
                  <a:srgbClr val="3333cc"/>
                </a:solidFill>
                <a:uFillTx/>
                <a:latin typeface="Times New Roman"/>
              </a:rPr>
              <a:t>załamywaniem się światła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buClr>
                <a:srgbClr val="99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4400" spc="-1" strike="noStrike" u="sng">
                <a:solidFill>
                  <a:srgbClr val="990033"/>
                </a:solidFill>
                <a:uFillTx/>
                <a:latin typeface="Times New Roman"/>
              </a:rPr>
              <a:t>owalne zachodzące Słoń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zach1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48320" y="1981080"/>
            <a:ext cx="38098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iedy Słońce jest nisko nad horyzontem, na skutek załamania światła w atmosferze jego górna krawędź pozornie się podn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 wyniku silniejszego załamania światła w warstwach powietrza bliższych ziemi dolna krawędź Słońca pozornie podnosi się jeszcze wyż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99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4400" spc="-1" strike="noStrike" u="sng">
                <a:solidFill>
                  <a:srgbClr val="990033"/>
                </a:solidFill>
                <a:uFillTx/>
                <a:latin typeface="Times New Roman"/>
              </a:rPr>
              <a:t>miraż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powodowane załamywaniem się światła w warstwach powietrza o różnej gęstości tuż przy powierzchni Ziem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p.: w upalny dzień tuż nad rozgrzaną  powierzchnią asfaltu czy pusty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Skan004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4114800" cy="2686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ce4b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ula szklana zarówno odbija światło, jak i załamuje widok przestrzeni za ni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oczewki  stosowane w okularach załamują światł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reflectandrefract" descr="Odbicie i załamanie światła"/>
          <p:cNvPicPr/>
          <p:nvPr/>
        </p:nvPicPr>
        <p:blipFill>
          <a:blip r:embed="rId1"/>
          <a:stretch/>
        </p:blipFill>
        <p:spPr>
          <a:xfrm>
            <a:off x="685800" y="1676520"/>
            <a:ext cx="3589200" cy="4092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99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4400" spc="-1" strike="noStrike" u="sng">
                <a:solidFill>
                  <a:srgbClr val="990033"/>
                </a:solidFill>
                <a:uFillTx/>
                <a:latin typeface="Times New Roman"/>
              </a:rPr>
              <a:t>szklana kula, soczew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0e1d2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47960" y="236196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dobny efekt możemy zaobserwować patrząc przez grube szkło czy chociażby szklankę pełną w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fisheye" descr="Rybie oko"/>
          <p:cNvPicPr/>
          <p:nvPr/>
        </p:nvPicPr>
        <p:blipFill>
          <a:blip r:embed="rId1"/>
          <a:stretch/>
        </p:blipFill>
        <p:spPr>
          <a:xfrm>
            <a:off x="1219320" y="1828800"/>
            <a:ext cx="2971800" cy="4419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99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4400" spc="-1" strike="noStrike" u="sng">
                <a:solidFill>
                  <a:srgbClr val="990033"/>
                </a:solidFill>
                <a:uFillTx/>
                <a:latin typeface="Times New Roman"/>
              </a:rPr>
              <a:t>soczewka, rybie ok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otatka z lekcj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łamanie światła – definicja zjawi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ąt padania, kąt załamania – definic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ąt załamania jest mniejszy od kąta padan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ąt załamania jest większy niż kąt padan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eń świetlny nie ulega załaman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8305920" y="6095880"/>
            <a:ext cx="533160" cy="486000"/>
          </a:xfrm>
          <a:prstGeom prst="rightArrow">
            <a:avLst>
              <a:gd name="adj1" fmla="val 50000"/>
              <a:gd name="adj2" fmla="val 27426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odsumowanie lekcj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»</a:t>
            </a:r>
            <a:r>
              <a:rPr b="1" i="1" lang="pl-P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pl-PL" sz="2800" spc="-1" strike="noStrike">
                <a:solidFill>
                  <a:srgbClr val="3333cc"/>
                </a:solidFill>
                <a:latin typeface="Times New Roman"/>
              </a:rPr>
              <a:t>załamanie światł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pl-PL" sz="2800" spc="-1" strike="noStrike">
                <a:solidFill>
                  <a:srgbClr val="ffffcc"/>
                </a:solidFill>
                <a:latin typeface="Times New Roman"/>
              </a:rPr>
              <a:t>zjawisko zmiany kierunku promienia świetlnego na granicy dwóch ośrodków przezroczyst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6699ff"/>
                </a:solidFill>
                <a:latin typeface="Times New Roman"/>
                <a:ea typeface="Times New Roman"/>
              </a:rPr>
              <a:t>»</a:t>
            </a:r>
            <a:r>
              <a:rPr b="1" lang="pl-PL" sz="3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i="1" lang="pl-PL" sz="2800" spc="-1" strike="noStrike">
                <a:solidFill>
                  <a:srgbClr val="6699ff"/>
                </a:solidFill>
                <a:latin typeface="Times New Roman"/>
              </a:rPr>
              <a:t>kąt załamani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Times New Roman"/>
              </a:rPr>
              <a:t>dla różnych substancji jest różny i zależy od prędkości rozchodzenia się światła w danym ośrodku</a:t>
            </a:r>
            <a:r>
              <a:rPr b="0" lang="pl-P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»</a:t>
            </a:r>
            <a:r>
              <a:rPr b="0" lang="pl-PL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pl-PL" sz="2800" spc="-1" strike="noStrike">
                <a:solidFill>
                  <a:srgbClr val="000099"/>
                </a:solidFill>
                <a:latin typeface="Times New Roman"/>
              </a:rPr>
              <a:t>zjawiska załamania światła w otaczającym świecie</a:t>
            </a:r>
            <a:r>
              <a:rPr b="0" lang="pl-PL" sz="2800" spc="-1" strike="noStrike">
                <a:solidFill>
                  <a:srgbClr val="000099"/>
                </a:solidFill>
                <a:latin typeface="Times New Roman"/>
              </a:rPr>
              <a:t> :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ffffff"/>
                </a:solidFill>
                <a:latin typeface="Webdings"/>
                <a:ea typeface="Webdings"/>
              </a:rPr>
              <a:t></a:t>
            </a:r>
            <a:r>
              <a:rPr b="0" lang="pl-PL" sz="2800" spc="-1" strike="noStrike">
                <a:solidFill>
                  <a:srgbClr val="ffffcc"/>
                </a:solidFill>
                <a:latin typeface="Times New Roman"/>
              </a:rPr>
              <a:t>działanie soczewek stosowanych w okularach</a:t>
            </a:r>
            <a:r>
              <a:rPr b="0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996633"/>
                </a:solidFill>
                <a:latin typeface="Webdings"/>
                <a:ea typeface="Webdings"/>
              </a:rPr>
              <a:t></a:t>
            </a:r>
            <a:r>
              <a:rPr b="0" lang="pl-PL" sz="2800" spc="-1" strike="noStrike">
                <a:solidFill>
                  <a:srgbClr val="ffffcc"/>
                </a:solidFill>
                <a:latin typeface="Times New Roman"/>
              </a:rPr>
              <a:t>  miraże w upalne dni nad powierzchnią asfaltu lub pustyni, </a:t>
            </a:r>
            <a:r>
              <a:rPr b="0" lang="pl-PL" sz="3200" spc="-1" strike="noStrike">
                <a:solidFill>
                  <a:srgbClr val="ccccff"/>
                </a:solidFill>
                <a:latin typeface="Webdings"/>
                <a:ea typeface="Webdings"/>
              </a:rPr>
              <a:t></a:t>
            </a:r>
            <a:r>
              <a:rPr b="0" lang="pl-PL" sz="28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Times New Roman"/>
              </a:rPr>
              <a:t>załamanie na powierzchni wody,    owalny kształt zachodzącego Słoń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828800"/>
            <a:ext cx="7632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905120"/>
            <a:ext cx="976320" cy="228600"/>
          </a:xfrm>
          <a:custGeom>
            <a:avLst/>
            <a:gdLst>
              <a:gd name="textAreaLeft" fmla="*/ 0 w 976320"/>
              <a:gd name="textAreaRight" fmla="*/ 976680 w 976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60958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5943600"/>
            <a:ext cx="228600" cy="15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6019920"/>
            <a:ext cx="228600" cy="15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6019920"/>
            <a:ext cx="228600" cy="15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6019920"/>
            <a:ext cx="22860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endshow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6461" y="10800"/>
                </a:moveTo>
                <a:lnTo>
                  <a:pt x="5956" y="17806"/>
                </a:lnTo>
                <a:lnTo>
                  <a:pt x="5956" y="3794"/>
                </a:lnTo>
                <a:close/>
              </a:path>
              <a:path fill="darken" w="25924" h="21600">
                <a:moveTo>
                  <a:pt x="18306" y="3794"/>
                </a:moveTo>
                <a:lnTo>
                  <a:pt x="18306" y="17806"/>
                </a:lnTo>
                <a:lnTo>
                  <a:pt x="19969" y="17806"/>
                </a:lnTo>
                <a:lnTo>
                  <a:pt x="19969" y="3794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066320" y="2362320"/>
            <a:ext cx="7239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Times New Roman"/>
              </a:rPr>
              <a:t>ANALIZA DOŚWIADCZE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94280" y="6172200"/>
            <a:ext cx="30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Wykonała: Barbara Jasic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880" y="762120"/>
            <a:ext cx="60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P r e z e n t a c j a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9c9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Times New Roman"/>
              </a:rPr>
              <a:t>DOŚWIADCZENIE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FOT_15_A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7242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łyżeczka zanurzona do wody, wydaje się „złaman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raz widziany w wodzie nie jest przedłużeniem łyżeczki widzianej w powietrzu – jest pomniejszo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fe"/>
            </a:gs>
            <a:gs pos="50000">
              <a:srgbClr val="9999ff"/>
            </a:gs>
            <a:gs pos="100000">
              <a:srgbClr val="cdc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Times New Roman"/>
              </a:rPr>
              <a:t>DOŚWIADCZENIE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iedy w garnku jest wystarczająco dużo wody, znowu można zobaczyć monet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eta wydaje się być większa i umieszczona bliżej niż jest w rzeczywistości – obserwujemy efekt „latającej monet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Skan001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2895480" cy="2063880"/>
          </a:xfrm>
          <a:prstGeom prst="rect">
            <a:avLst/>
          </a:prstGeom>
          <a:ln w="0">
            <a:noFill/>
          </a:ln>
        </p:spPr>
      </p:pic>
      <p:pic>
        <p:nvPicPr>
          <p:cNvPr id="53" name="Skan002" descr=""/>
          <p:cNvPicPr/>
          <p:nvPr/>
        </p:nvPicPr>
        <p:blipFill>
          <a:blip r:embed="rId2"/>
          <a:stretch/>
        </p:blipFill>
        <p:spPr>
          <a:xfrm>
            <a:off x="1371600" y="4114800"/>
            <a:ext cx="289548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d6d6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Times New Roman"/>
              </a:rPr>
              <a:t>DOŚWIADCZENIE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mień świetlny po przejściu z powietrza do wody zmienia kierun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ie zmienia kierunku jedynie promień padający prostopadle na granicę ośrod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Skan003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3962520" cy="2908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d8fe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Obserwowane przez nas w tych wszystkich doświadczeniach zjawisko nosi nazw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en-US" sz="7200" spc="-1" strike="noStrike" u="sng">
                <a:solidFill>
                  <a:srgbClr val="ffff00"/>
                </a:solidFill>
                <a:uFillTx/>
                <a:latin typeface="Times New Roman"/>
              </a:rPr>
              <a:t>załamania światł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ff00"/>
                </a:solidFill>
                <a:uFillTx/>
                <a:latin typeface="Times New Roman"/>
              </a:rPr>
              <a:t>Załamanie światł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est zjawiskiem zmiany kierunku    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omienia świetlnego na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ranicy dwóch ośrodków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zezroczyst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05920" y="6095880"/>
            <a:ext cx="533160" cy="486000"/>
          </a:xfrm>
          <a:prstGeom prst="rightArrow">
            <a:avLst>
              <a:gd name="adj1" fmla="val 50000"/>
              <a:gd name="adj2" fmla="val 27426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d6d6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Załamanie promienia świetln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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 kąt padan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kąt zawarty między promieniem padającym a prostą prostopadłą do powierzchni załamujące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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 kat załaman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kąt zawarty między promieniem załamanym a prostą prostopadłą do powierzchni załamujące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ień padający, prostopadła do powierzchni załamującej i promień załamany leżą w jednej płaszczyź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8305920" y="6172200"/>
            <a:ext cx="533160" cy="485640"/>
          </a:xfrm>
          <a:prstGeom prst="rightArrow">
            <a:avLst>
              <a:gd name="adj1" fmla="val 50000"/>
              <a:gd name="adj2" fmla="val 27446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565a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zy kąt załamania dla różnych substancji jest taki sam czy jest róż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d czego zależy wartość kąta załaman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y znaleźć odpowiedzi na te pytania odwiedźmy stronę internetową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876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http://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fizykmania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.w.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4"/>
              </a:rPr>
              <a:t>interia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5"/>
              </a:rPr>
              <a:t>.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6"/>
              </a:rPr>
              <a:t>pl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"/>
              </a:rPr>
              <a:t>/animacje/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8"/>
              </a:rPr>
              <a:t>zal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9"/>
              </a:rPr>
              <a:t>_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0"/>
              </a:rPr>
              <a:t>swia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1"/>
              </a:rPr>
              <a:t>/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2"/>
              </a:rPr>
              <a:t>refraction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3"/>
              </a:rPr>
              <a:t>.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4"/>
              </a:rPr>
              <a:t>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5880"/>
            <a:ext cx="533160" cy="486000"/>
          </a:xfrm>
          <a:prstGeom prst="rightArrow">
            <a:avLst>
              <a:gd name="adj1" fmla="val 50000"/>
              <a:gd name="adj2" fmla="val 27426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3T18:44:00Z</dcterms:created>
  <dc:creator>Jasicka Basia</dc:creator>
  <dc:description/>
  <dc:language>en-US</dc:language>
  <cp:lastModifiedBy>Danuta</cp:lastModifiedBy>
  <dcterms:modified xsi:type="dcterms:W3CDTF">2004-04-22T09:45:43Z</dcterms:modified>
  <cp:revision>39</cp:revision>
  <dc:subject/>
  <dc:title>PREZENTACJA</dc:title>
</cp:coreProperties>
</file>